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A4A0-2815-4269-87BE-7E0897751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C4AC-50A8-4B85-92CD-DEDFD739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7EA0-E895-46DF-931B-C3C40086A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FF76-518C-4F61-ADF9-7570DD31D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0F37-F988-418B-9CFB-246F5D2E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8B62-8DBB-482C-9B98-87B83025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02E9-B1C4-4C91-B468-7B15C12E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1B11-E6BD-49A0-A676-AFF38546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EF62-438E-4DDE-87E8-8F0DDFC1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FA47-381D-4454-97F5-7F84063E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EB9F-F2D8-450E-B3ED-0CCB5E25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CF55-AC6D-4D44-A1DC-D5A6399C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C4F0-3ECC-42C5-981C-BFE608A37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9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 person start a corporation with a minimal cash invest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mulated depreciation measures the decline in the market value of a fixed ass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4084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revising useful life and residual value estimates for an asset, the revisions only affect the amounts of depreciation expense for future perio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fixed asset is sold for an amount different from its book value, it is not necessary to record a gain or a loss on the disposal of the ass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1276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 of the following are included as costs of acquiring equipment exce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010960"/>
            <a:ext cx="411480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chase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es 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ine maintenance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29600"/>
            <a:ext cx="82296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example of an accelerated depreciation method i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28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ight-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ble-declining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s of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084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ich of the following depreciation methods provides for equal amounts of depreciation expense for each year of the fixed asset’s useful lif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114800" cy="33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ble-declining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ight-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s of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nditures that improve the asset or extend its useful life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79280"/>
            <a:ext cx="411480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ized with the cost of the as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ed in the current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nue expendit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ed for separately from the cost of the as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9044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der a capital lease, the lessee records the payments at fair value b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114800" cy="434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iting Operating Lease Expense and crediting C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iting an asset and crediting Long-term Lease 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iting an asset and crediting C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iting Cash and crediting Operating Lease Exp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not a consideration when calculating depreciation for a fixed ass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114800" cy="33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nded use of the as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idual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ed useful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pletion 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114800" cy="54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thod to recognize the declining market value of natural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 of reducing the value of intangible asset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thod to record the spoilage of natural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 of transferring costs for natural resources to an expense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15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the investment given to start a Fatburger restaurant include more than the rights to use the name of the compa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29960"/>
            <a:ext cx="82296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of the following is an example of an intangible ass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10960"/>
            <a:ext cx="411480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angible assets are normally reported on the balance sheet of a company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114800" cy="33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as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ty, plant, and 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own separate se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journal entry to record depreciation for a fixed asset would includ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041560"/>
            <a:ext cx="4114800" cy="251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to Accumulated Depre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it to Fixed As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to Depreciation Exp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to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57200" y="1009800"/>
            <a:ext cx="8305920" cy="179532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2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June 18, GTS Co. paid $1,200 to upgrade a hydraulic lift and $45 for an oil change for one of its delivery trucks. The amount that should be debited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Delivery Truck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0" y="320040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3114720"/>
          <a:ext cx="8229600" cy="21430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2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  <p:grpSp>
        <p:nvGrpSpPr>
          <p:cNvPr id="133" name="Group 17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34" name="Rectangle 18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9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20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9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16040"/>
            <a:ext cx="8229600" cy="80784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0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41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9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114800" cy="28191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$1,2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$1,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$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$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457200" y="762120"/>
            <a:ext cx="8305920" cy="264852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pment acquired at the beginning of the year at a cost of $125,000 has an estimated residual value of $5,000 and an estimated useful life of 10 years. Determine (a) the depreciable cost, (b) the straight-line rate, and (c) the annual straight-line deprec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0" y="320040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57200" y="3733920"/>
          <a:ext cx="8229600" cy="21333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a) $125,000, (b) 10%, &amp; (c) $1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a) $120,000, (b) 10%, &amp; (c) $12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a) $125,000, (b) 10%, &amp; (c) $12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a) $120,000, (b) 1%, &amp; (c) $12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  <p:grpSp>
        <p:nvGrpSpPr>
          <p:cNvPr id="149" name="Group 17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50" name="Rectangle 18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9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20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9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144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57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9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114800" cy="361152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a) $125,000, (b) 10%, &amp; (c) $12,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a) $120,000, (b) 10%, &amp; (c) $12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a) $125,000, (b) 10%, &amp; (c) $12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a) $120,000, (b) 1%, &amp; (c) $12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457200" y="719280"/>
            <a:ext cx="8305920" cy="264852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pment acquired at the beginning of the year at a cost of $125,000 has an estimated residual value of $5,000 and an estimated useful life of 10 years. Determine (a) the double-declining-balance rate and (b) the double-declining-balance depreciation for the first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4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64" name="Rectangle 5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6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7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9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7" name=""/>
          <p:cNvGraphicFramePr/>
          <p:nvPr/>
        </p:nvGraphicFramePr>
        <p:xfrm>
          <a:off x="457200" y="4114800"/>
          <a:ext cx="8229600" cy="21337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a) 25% &amp; (b) $25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a) 10% &amp; (b) $12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a) 10% &amp; (b) $1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a) 20% &amp; (b) $25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72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9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2103120"/>
            <a:ext cx="4114800" cy="33066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a) 20% &amp; (b) $25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a) 10% &amp; (b) $12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a) 10% &amp; (b) $12,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a) 20% &amp; (b) $25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the cash investment in a Fatburger restaurant be shown in the company financial stat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3616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a corporation is formed and operating, will additional investments in fixed assets be requi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n owner of a company with investments in fixed assets, is it necessary to account for the wear and tear on the fixed assets of the compan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1068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enue expenditures improve the asset or extend its useful lif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-lived fixed assets held for resale are not classified as fixed assets, but as invest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996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st of acquiring fixed assets includes all amounts spent to get the asset in place and ready for 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TPChart"/>
          <p:cNvGraphicFramePr/>
          <p:nvPr/>
        </p:nvGraphicFramePr>
        <p:xfrm>
          <a:off x="4508640" y="1752480"/>
          <a:ext cx="4481280" cy="504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752480"/>
                    <a:ext cx="4481280" cy="50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perating lease is accounted for as if the lessee is renting the asset for the lease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TPChart"/>
          <p:cNvGraphicFramePr/>
          <p:nvPr/>
        </p:nvGraphicFramePr>
        <p:xfrm>
          <a:off x="4343400" y="1981080"/>
          <a:ext cx="4635360" cy="487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981080"/>
                    <a:ext cx="4635360" cy="48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81120"/>
            <a:ext cx="411480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17:58:33Z</dcterms:created>
  <dc:creator> </dc:creator>
  <dc:description/>
  <dc:language>en-US</dc:language>
  <cp:lastModifiedBy>Leslie</cp:lastModifiedBy>
  <dcterms:modified xsi:type="dcterms:W3CDTF">2008-12-30T03:06:43Z</dcterms:modified>
  <cp:revision>42</cp:revision>
  <dc:subject/>
  <dc:title>Is the investment for starting any corporation such as Fatburger Corporation always this costly?</dc:title>
</cp:coreProperties>
</file>